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395-DDA5-442C-8790-0618D417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E75-42F9-4B48-950F-02B24F7A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571-CCCB-4959-98F2-DBF63B8F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4C46-EC17-4EEA-B6F3-2C6094D8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2338-62DE-427E-99B9-0458385B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D837-41DC-48E6-8183-1301B8D7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1B83-6004-4FA6-A69A-F80138B6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7D5B-334E-47FF-AF9E-1F4954D6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F9C3-562A-44E3-B511-EFF8D04E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FF35-BCA3-49CC-AA7C-ABEBEF1C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7324-128D-4EE7-996D-AFDD9C4C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FF6-09DC-4A15-9CE9-632BED50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C3FB-F3A7-4421-A56A-01348625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1643-26D6-49F0-90C8-E75D606C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3D17-5303-4947-B22B-F541292A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DAF4-9F5B-45ED-8939-47828EF3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D650-B35E-403B-8234-5F56DEC8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2D9-F820-4B9C-94F1-D6B42B28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A4C-326B-4787-B311-0FC8241E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22E-9870-4281-B7A2-4BCC2655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48A-C3AF-4684-98F9-1A9004C3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50A-E5C4-4FF4-8FD6-F5E3AB87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251-9492-41AA-8B80-A51419DD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ECF-BF8A-438C-B8F2-F90B1B97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36D3-D86D-4E38-A1C2-65648B127E3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A6CA-631A-416F-9421-C0A7A3A16E7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Травмы в походе - общие принципы оказания помощ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Добрушина Ольга, 2006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71640" y="525600"/>
            <a:ext cx="698508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913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456000" cy="329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529080" cy="341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3024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232160" cy="4464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568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4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00480" y="2060640"/>
            <a:ext cx="40435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ртериаль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еноз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пилляр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1989000"/>
            <a:ext cx="3456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т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нутренне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907640" y="1484280"/>
            <a:ext cx="792360" cy="432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413000"/>
            <a:ext cx="936720" cy="576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392200" cy="4746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23680" y="45864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Пальцевое прижатие артер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5832360" cy="1230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661840" y="18900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Наложение жгу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сновные правила наложения жгут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ть на голую кожу, на ран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ется: в середине плеча, в нижней трети голеностоп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ла - минимальная достаточная для остановки кровотеч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ерез полчаса проверить остановку кровотечения , если не остановилось - повторить налож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закрывать жгут одежд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пис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медленно доставить в лечебное учрежд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е 2 часа летом и 0,5ч - зимой проводить ослабление жгу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935080" cy="4381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768560" cy="3433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780000" y="2320920"/>
            <a:ext cx="5832360" cy="403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2760480" cy="2847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093080" y="4724280"/>
            <a:ext cx="1728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2490480" cy="3024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074480" y="811080"/>
            <a:ext cx="491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рекись водоро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ибидил (хлоргексидина биглюконат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рамист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урацилл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т.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07040" y="3333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Мяг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19640" y="4292640"/>
            <a:ext cx="2997360" cy="2387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43800" y="393372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Жест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39720" y="4581360"/>
            <a:ext cx="159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пир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Йод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«Зелёнка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14889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11280" y="1155960"/>
            <a:ext cx="7632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 накладывать на голую кожу (нужны мягкие прокладки), на ран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ставить травмированное место в том положении, в котором его нашли е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должна перекрывать как минимум два соседних с переломом суста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учше накладывать по бокам конечности, менее удобно – по передней или задней сторонам конеч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чественная фиксац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не должна нарушать кровообращ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16440" y="47304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Основные правила наложения ши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3944880" cy="19508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537080" cy="39765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853560" y="62064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Верх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759280" cy="2747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627280" y="692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Перелом ключи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3098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808200" y="47628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Нижние 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067280" y="1844640"/>
            <a:ext cx="1712880" cy="3963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516720" y="2997360"/>
            <a:ext cx="21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0872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172720" cy="1968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833280" y="76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Кости та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75640" cy="17398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634200" y="62064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Позвоночни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1776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ш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себе (один человек, несколько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носилка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яг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олу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2247840" y="476280"/>
            <a:ext cx="44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Способы транспортиров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Частные случаи трав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120000" cy="3252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елом позвоночник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ерепно-мозговая трав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826000" cy="3159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283356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597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спирация инородного те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9640" y="1797120"/>
            <a:ext cx="8280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Острый живот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пасность – кровотечение, перитони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мощь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 поко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озможно применение антибиот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езболивание не показано, но..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428760"/>
            <a:ext cx="640872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осовое 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567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нородное тело в гл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14320" cy="20764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238120" cy="1781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6012000" y="1700280"/>
            <a:ext cx="2238120" cy="19238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1835280" y="4221000"/>
            <a:ext cx="2238120" cy="18576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5508720" y="4221000"/>
            <a:ext cx="1714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Ушибы и растяж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441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948360" y="134136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90760" y="1197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Хол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47560" y="12682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НПВ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0920" y="3716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940360" y="4653000"/>
            <a:ext cx="2592360" cy="15429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924160" y="386064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4. Разогревающ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через 1-3 суток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539640" y="429264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2916360" y="3645000"/>
            <a:ext cx="1728720" cy="14605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2195640" y="501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рез пальц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325600" cy="15415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286000" cy="163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492360" y="4508640"/>
            <a:ext cx="2381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тёртости и мозол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449800" cy="13064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37040" y="121140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Внимание к обуви, носкам и нога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3880" y="337176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Своевременное использование пластыр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2640" y="515772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В походе практически не лечатся, но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терильная повяз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анозаживляюще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ротыкать или нет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1390680" cy="19047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1376280" cy="15051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1116000" y="3860640"/>
            <a:ext cx="2448000" cy="11829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4572000" y="3789360"/>
            <a:ext cx="1368360" cy="1035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6659640" y="5445000"/>
            <a:ext cx="736560" cy="1224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tretch/>
        </p:blipFill>
        <p:spPr>
          <a:xfrm>
            <a:off x="4932360" y="558972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Реализация принципа «Не навреди!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передвигайте пострадавшего с серьезными травм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авайте пищу и воду, если не увере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елайте действий, перекрывающих дыхательные пути (не кладите плашмя, не подкладывайте под голову подушку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ердечно-лёгочная реанимац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Обеспечение проходимости дыхательных путе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2 вдох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рекардиальный удар 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дох:надавливание на грудную клетку = 2:15 (один реаниматор) или 1:5 (два реаниматора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онтроль эффективн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54723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6900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31366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57:39Z</dcterms:created>
  <dc:creator>Добрушина</dc:creator>
  <dc:description/>
  <dc:language>en-US</dc:language>
  <cp:lastModifiedBy>Добрушина</cp:lastModifiedBy>
  <dcterms:modified xsi:type="dcterms:W3CDTF">2006-06-05T23:20:36Z</dcterms:modified>
  <cp:revision>36</cp:revision>
  <dc:subject/>
  <dc:title>Слайд 1</dc:title>
</cp:coreProperties>
</file>