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69F4-2DC2-4535-9EF5-2FBA679FE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2537-A8C2-437F-B217-CC4C33859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C364-9B4A-4278-BBB5-BABB64599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F39B-6746-4C58-9CFD-1309DA06F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BE4B5-4963-4511-851A-844978B87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3075A-B287-4415-AECE-400CEA323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F5C4E-2E4A-4D27-B403-2111132DC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2551A-3E87-4A5E-8C63-3662BD060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0CB4E-B46A-4DAA-8A29-CD400E655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D71ED-C861-437D-AB72-FE3382CC6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7CBB6-E54A-4EE8-BE2E-544E4C853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E4C9-5709-4D28-8D7B-43597ECF8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D12A3-DF3A-4E87-B53C-26E45A2A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1FC98-A9A6-4AE8-9612-EA2061BA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1983C-75B7-46D2-822F-715063FC2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ADCE1-A336-4299-8D84-CD2F584A8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1ABA7-308B-4CEB-9732-A29829694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22B8-442D-448B-BFC6-73C477295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8B5D-00FB-4EF9-925D-9AD388072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D250-7DCF-4213-BBEF-B0B232128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50F3-B82B-4939-99BF-C2609A430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0167-FBCF-4AF3-91AD-13BC5E5C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5CB5-B0CA-4941-97CB-9D8ED4582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580A-2723-474D-A605-18A8629D7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FCAB3-E449-4A47-B0BA-6D65D39E993F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F8E9E-D19B-4A30-989D-099FB9E49120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image" Target="../media/image47.png"/><Relationship Id="rId8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image" Target="../media/image56.png"/><Relationship Id="rId7" Type="http://schemas.openxmlformats.org/officeDocument/2006/relationships/image" Target="../media/image57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Arial"/>
              </a:rPr>
              <a:t>Травмы в походе - общие принципы оказания помощи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74320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Добрушина Ольга, 2006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971640" y="525600"/>
            <a:ext cx="6985080" cy="60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971640" y="620640"/>
            <a:ext cx="6913440" cy="59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3456000" cy="32958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859280" y="1557360"/>
            <a:ext cx="3529080" cy="34131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1116000" y="4292640"/>
            <a:ext cx="302436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40040" y="433080"/>
            <a:ext cx="594504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Алгоритм оказания помощи пострадавшему с травмой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029040" y="882720"/>
            <a:ext cx="40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Устранение повреждающего фактор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58960" y="154764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ознание сохранено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090880" y="2211480"/>
            <a:ext cx="20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ульс на сонной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ние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30240" y="3097080"/>
            <a:ext cx="21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ердечно-лёгочна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реаним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982600" y="3097080"/>
            <a:ext cx="22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Проходимост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дыхательных  путе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438520" y="3573360"/>
            <a:ext cx="28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становка артериальног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кровотечен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819760" y="44146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безболивани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849200" y="4846680"/>
            <a:ext cx="35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оиск и обработка повреждени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602680" y="540072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Иммобилиз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1640" y="1312920"/>
            <a:ext cx="0" cy="333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2013120" y="2752560"/>
            <a:ext cx="51408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659040" y="2752560"/>
            <a:ext cx="51444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013120" y="3971880"/>
            <a:ext cx="349704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540480" y="41925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540480" y="474660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540480" y="530064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99040" y="1978200"/>
            <a:ext cx="1441440" cy="16617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540480" y="5854680"/>
            <a:ext cx="0" cy="2206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532840" y="59547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Транспортировк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204160" y="1792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67480" y="2568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044160" y="17701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912320" y="25686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0705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0131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3276720" y="1978200"/>
            <a:ext cx="382320" cy="2984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4232160" cy="44643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5148360" y="2924280"/>
            <a:ext cx="3568680" cy="35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0040" y="433080"/>
            <a:ext cx="594504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Алгоритм оказания помощи пострадавшему с травмой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029040" y="882720"/>
            <a:ext cx="40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Устранение повреждающего фактор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58960" y="154764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ознание сохранено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090880" y="2211480"/>
            <a:ext cx="20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ульс на сонной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ние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30240" y="3097080"/>
            <a:ext cx="21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ердечно-лёгочна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реаним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982600" y="3097080"/>
            <a:ext cx="22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роходимост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тельных  путе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438520" y="3573360"/>
            <a:ext cx="28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Остановка артериальног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кровотечен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819760" y="44146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безболивани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49200" y="4846680"/>
            <a:ext cx="35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оиск и обработка повреждени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602680" y="540072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Иммобилиз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481640" y="1312920"/>
            <a:ext cx="0" cy="333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2013120" y="2752560"/>
            <a:ext cx="51408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659040" y="2752560"/>
            <a:ext cx="51444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013120" y="3971880"/>
            <a:ext cx="349704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540480" y="41925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540480" y="474660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540480" y="530064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099040" y="1978200"/>
            <a:ext cx="1441440" cy="16617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540480" y="5854680"/>
            <a:ext cx="0" cy="2206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532840" y="59547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Транспортировк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204160" y="1792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67480" y="2568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044160" y="17701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912320" y="25686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0705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131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276720" y="1978200"/>
            <a:ext cx="382320" cy="2984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748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Кровотечени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100480" y="2060640"/>
            <a:ext cx="40435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Артериально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Венозно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Капиллярно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0" name=""/>
          <p:cNvSpPr/>
          <p:nvPr/>
        </p:nvSpPr>
        <p:spPr>
          <a:xfrm>
            <a:off x="539640" y="1989000"/>
            <a:ext cx="3456000" cy="21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Открыто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Закрыто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Внутренне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1907640" y="1484280"/>
            <a:ext cx="792360" cy="43200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867280" y="1413000"/>
            <a:ext cx="936720" cy="57600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3419640" y="1268280"/>
            <a:ext cx="2392200" cy="47466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1723680" y="458640"/>
            <a:ext cx="625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Пальцевое прижатие артерии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5832360" cy="12304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5580000" y="3213000"/>
            <a:ext cx="2303640" cy="230364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2661840" y="189000"/>
            <a:ext cx="369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c85e"/>
                </a:solidFill>
                <a:latin typeface="Verdana"/>
              </a:rPr>
              <a:t>Наложение жгут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Основные правила наложения жгута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68000" y="836640"/>
            <a:ext cx="8218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Не накладывать на голую кожу, на рану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Не накладывается: в середине плеча, в нижней трети голеностоп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ила - минимальная достаточная для остановки кровотечения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Через полчаса проверить остановку кровотечения , если не остановилось - повторить наложение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Не закрывать жгут одеждой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Записк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Немедленно доставить в лечебное учреждение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Каждые 2 часа летом и 0,5ч - зимой проводить ослабление жгут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0040" y="433080"/>
            <a:ext cx="594504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Алгоритм оказания помощи пострадавшему с травмой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29040" y="882720"/>
            <a:ext cx="40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Устранение повреждающего фактор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58960" y="154764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ознание сохранено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90880" y="2211480"/>
            <a:ext cx="20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ульс на сонной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ние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30240" y="3097080"/>
            <a:ext cx="21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ердечно-лёгочна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реаним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82600" y="3097080"/>
            <a:ext cx="22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роходимост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тельных  путе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38520" y="3573360"/>
            <a:ext cx="28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становка артериальног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кровотечен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819760" y="44146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безболивани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849200" y="4846680"/>
            <a:ext cx="35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оиск и обработка повреждени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602680" y="540072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Иммобилиз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81640" y="1312920"/>
            <a:ext cx="0" cy="333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2013120" y="2752560"/>
            <a:ext cx="51408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59040" y="2752560"/>
            <a:ext cx="51444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13120" y="3971880"/>
            <a:ext cx="349704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40480" y="41925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540480" y="474660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540480" y="530064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99040" y="1978200"/>
            <a:ext cx="1441440" cy="16617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540480" y="5854680"/>
            <a:ext cx="0" cy="2206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32840" y="59547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Транспортировк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204160" y="1792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67480" y="2568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4160" y="17701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12320" y="25686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0705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0131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3276720" y="1978200"/>
            <a:ext cx="382320" cy="2984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2935080" cy="438156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4140360" y="2637000"/>
            <a:ext cx="4768560" cy="34336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3780000" y="2320920"/>
            <a:ext cx="5832360" cy="4032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40040" y="433080"/>
            <a:ext cx="594504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Алгоритм оказания помощи пострадавшему с травмой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029040" y="882720"/>
            <a:ext cx="40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Устранение повреждающего фактор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558960" y="154764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ознание сохранено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090880" y="2211480"/>
            <a:ext cx="20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ульс на сонной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ние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930240" y="3097080"/>
            <a:ext cx="21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ердечно-лёгочна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реаним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982600" y="3097080"/>
            <a:ext cx="22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роходимост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тельных  путе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438520" y="3573360"/>
            <a:ext cx="28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становка артериальног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кровотечен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819760" y="44146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Обезболивани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849200" y="4846680"/>
            <a:ext cx="35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оиск и обработка повреждени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602680" y="540072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Иммобилиз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81640" y="1312920"/>
            <a:ext cx="0" cy="333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2013120" y="2752560"/>
            <a:ext cx="51408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659040" y="2752560"/>
            <a:ext cx="51444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013120" y="3971880"/>
            <a:ext cx="349704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540480" y="41925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540480" y="474660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540480" y="530064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099040" y="1978200"/>
            <a:ext cx="1441440" cy="16617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540480" y="5854680"/>
            <a:ext cx="0" cy="2206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532840" y="59547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Транспортировк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04160" y="1792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867480" y="2568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044160" y="17701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912320" y="25686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0705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0131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3276720" y="1978200"/>
            <a:ext cx="382320" cy="2984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2952720" cy="295308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5148360" y="549360"/>
            <a:ext cx="2760480" cy="284796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2484360" y="2781360"/>
            <a:ext cx="3816360" cy="381636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4"/>
          <a:stretch/>
        </p:blipFill>
        <p:spPr>
          <a:xfrm>
            <a:off x="7093080" y="4724280"/>
            <a:ext cx="172872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940040" y="433080"/>
            <a:ext cx="594504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Алгоритм оказания помощи пострадавшему с травмой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029040" y="882720"/>
            <a:ext cx="40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Устранение повреждающего фактор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558960" y="154764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ознание сохранено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090880" y="2211480"/>
            <a:ext cx="20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ульс на сонной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ние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930240" y="3097080"/>
            <a:ext cx="21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ердечно-лёгочна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реаним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982600" y="3097080"/>
            <a:ext cx="22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роходимост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тельных  путе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438520" y="3573360"/>
            <a:ext cx="28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становка артериальног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кровотечен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819760" y="44146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безболивани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849200" y="4846680"/>
            <a:ext cx="35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Поиск и обработка повреждени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02680" y="540072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Иммобилиз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481640" y="1312920"/>
            <a:ext cx="0" cy="333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2013120" y="2752560"/>
            <a:ext cx="51408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659040" y="2752560"/>
            <a:ext cx="51444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013120" y="3971880"/>
            <a:ext cx="349704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540480" y="41925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540480" y="474660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540480" y="530064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099040" y="1978200"/>
            <a:ext cx="1441440" cy="16617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540480" y="5854680"/>
            <a:ext cx="0" cy="2206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532840" y="59547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Транспортировк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204160" y="1792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67480" y="2568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44160" y="17701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912320" y="25686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0705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0131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3276720" y="1978200"/>
            <a:ext cx="382320" cy="2984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684360" y="189000"/>
            <a:ext cx="2490480" cy="302400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4074480" y="811080"/>
            <a:ext cx="4915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Перекись водород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Гибидил (хлоргексидина биглюконат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Мирамистин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Фурациллин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и т.д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307040" y="333360"/>
            <a:ext cx="35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“</a:t>
            </a:r>
            <a:r>
              <a:rPr b="0" lang="ru-RU" sz="2400" spc="-1" strike="noStrike">
                <a:solidFill>
                  <a:srgbClr val="eec85e"/>
                </a:solidFill>
                <a:latin typeface="Verdana"/>
              </a:rPr>
              <a:t>Мягкие</a:t>
            </a: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”</a:t>
            </a:r>
            <a:r>
              <a:rPr b="0" lang="ru-RU" sz="2400" spc="-1" strike="noStrike">
                <a:solidFill>
                  <a:srgbClr val="eec85e"/>
                </a:solidFill>
                <a:latin typeface="Verdana"/>
              </a:rPr>
              <a:t> антисептик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5219640" y="4292640"/>
            <a:ext cx="2997360" cy="238752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1243800" y="3933720"/>
            <a:ext cx="36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“</a:t>
            </a:r>
            <a:r>
              <a:rPr b="0" lang="ru-RU" sz="2400" spc="-1" strike="noStrike">
                <a:solidFill>
                  <a:srgbClr val="eec85e"/>
                </a:solidFill>
                <a:latin typeface="Verdana"/>
              </a:rPr>
              <a:t>Жесткие</a:t>
            </a: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”</a:t>
            </a:r>
            <a:r>
              <a:rPr b="0" lang="ru-RU" sz="2400" spc="-1" strike="noStrike">
                <a:solidFill>
                  <a:srgbClr val="eec85e"/>
                </a:solidFill>
                <a:latin typeface="Verdana"/>
              </a:rPr>
              <a:t> антисептик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539720" y="4581360"/>
            <a:ext cx="159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Спирт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Йод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«Зелёнка»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3924360" y="5373720"/>
            <a:ext cx="148896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940040" y="433080"/>
            <a:ext cx="594504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Алгоритм оказания помощи пострадавшему с травмой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029040" y="882720"/>
            <a:ext cx="40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Устранение повреждающего фактор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558960" y="154764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ознание сохранено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090880" y="2211480"/>
            <a:ext cx="20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ульс на сонной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ние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930240" y="3097080"/>
            <a:ext cx="21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ердечно-лёгочна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реаним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82600" y="3097080"/>
            <a:ext cx="22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роходимост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тельных  путе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438520" y="3573360"/>
            <a:ext cx="28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становка артериальног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кровотечен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819760" y="44146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безболивани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849200" y="4846680"/>
            <a:ext cx="35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оиск и обработка повреждени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602680" y="540072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Иммобилиз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481640" y="1312920"/>
            <a:ext cx="0" cy="333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2013120" y="2752560"/>
            <a:ext cx="51408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659040" y="2752560"/>
            <a:ext cx="51444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013120" y="3971880"/>
            <a:ext cx="349704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40480" y="41925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540480" y="474660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540480" y="530064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099040" y="1978200"/>
            <a:ext cx="1441440" cy="16617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540480" y="5854680"/>
            <a:ext cx="0" cy="2206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532840" y="59547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Транспортировк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4160" y="1792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867480" y="2568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044160" y="17701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912320" y="25686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0705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0131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3276720" y="1978200"/>
            <a:ext cx="382320" cy="2984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611280" y="1155960"/>
            <a:ext cx="7632720" cy="45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Не накладывать на голую кожу (нужны мягкие прокладки), на рану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Оставить травмированное место в том положении, в котором его нашли его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Шина должна перекрывать как минимум два соседних с переломом сустав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Лучше накладывать по бокам конечности, менее удобно – по передней или задней сторонам конечност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Качественная фиксац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Шина не должна нарушать кровообращение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16440" y="473040"/>
            <a:ext cx="594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c85e"/>
                </a:solidFill>
                <a:latin typeface="Verdana"/>
              </a:rPr>
              <a:t>Основные правила наложения шин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1042920" y="4508640"/>
            <a:ext cx="3944880" cy="195084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4211640" y="333360"/>
            <a:ext cx="4537080" cy="397656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853560" y="620640"/>
            <a:ext cx="19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Верхние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конечност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1619280" y="2276640"/>
            <a:ext cx="5759280" cy="274788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2627280" y="69228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Перелом ключицы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3168720" cy="309888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808200" y="476280"/>
            <a:ext cx="323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c85e"/>
                </a:solidFill>
                <a:latin typeface="Verdana"/>
              </a:rPr>
              <a:t>Нижние конечност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4067280" y="1844640"/>
            <a:ext cx="1712880" cy="396396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3"/>
          <a:stretch/>
        </p:blipFill>
        <p:spPr>
          <a:xfrm>
            <a:off x="6516720" y="2997360"/>
            <a:ext cx="21956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403280" y="404640"/>
            <a:ext cx="6408720" cy="611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539640" y="2781360"/>
            <a:ext cx="8172720" cy="196848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3833280" y="76500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Verdana"/>
              </a:rPr>
              <a:t>Кости таз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8675640" cy="173988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634200" y="620640"/>
            <a:ext cx="18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Verdana"/>
              </a:rPr>
              <a:t>Позвоночник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4427640" y="4149720"/>
            <a:ext cx="177624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940040" y="433080"/>
            <a:ext cx="594504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Алгоритм оказания помощи пострадавшему с травмой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029040" y="882720"/>
            <a:ext cx="40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Устранение повреждающего фактор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558960" y="154764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ознание сохранено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090880" y="2211480"/>
            <a:ext cx="20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ульс на сонной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ние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930240" y="3097080"/>
            <a:ext cx="21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ердечно-лёгочна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реаним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982600" y="3097080"/>
            <a:ext cx="22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роходимост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тельных  путе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438520" y="3573360"/>
            <a:ext cx="28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становка артериальног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кровотечен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819760" y="44146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безболивани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49200" y="4846680"/>
            <a:ext cx="35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оиск и обработка повреждени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602680" y="540072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Иммобилиз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481640" y="1312920"/>
            <a:ext cx="0" cy="333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2013120" y="2752560"/>
            <a:ext cx="51408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659040" y="2752560"/>
            <a:ext cx="51444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013120" y="3971880"/>
            <a:ext cx="349704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540480" y="41925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540480" y="474660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540480" y="530064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099040" y="1978200"/>
            <a:ext cx="1441440" cy="16617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540480" y="5854680"/>
            <a:ext cx="0" cy="2206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532840" y="59547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Транспортировк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204160" y="1792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867480" y="2568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044160" y="17701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912320" y="25686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0705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0131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3276720" y="1978200"/>
            <a:ext cx="382320" cy="2984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539640" y="1125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Пешком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На себе (один человек, несколько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На носилках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мягкие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полужесткие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жесткие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9" name=""/>
          <p:cNvSpPr/>
          <p:nvPr/>
        </p:nvSpPr>
        <p:spPr>
          <a:xfrm>
            <a:off x="2247840" y="476280"/>
            <a:ext cx="449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c85e"/>
                </a:solidFill>
                <a:latin typeface="Verdana"/>
              </a:rPr>
              <a:t>Способы транспортировк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755640" y="227664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Частные случаи травм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1403280" y="2276640"/>
            <a:ext cx="6120000" cy="325260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Перелом позвоночника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Черепно-мозговая травм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1403280" y="1989000"/>
            <a:ext cx="2826000" cy="315936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5148360" y="2205000"/>
            <a:ext cx="2833560" cy="27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Травма грудной клетк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2771640" y="1844640"/>
            <a:ext cx="359748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Аспирация инородного тел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539640" y="1797120"/>
            <a:ext cx="828036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«Острый живот»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Опасность – кровотечение, перитонит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Помощь: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холод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голод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и покой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Возможно применение антибиотиков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Обезболивание не показано, но..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403280" y="428760"/>
            <a:ext cx="6408720" cy="61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Носовое кровотечени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2700360" y="1989000"/>
            <a:ext cx="356724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Инородное тело в глазу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684360" y="1557360"/>
            <a:ext cx="1714320" cy="207648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2"/>
          <a:stretch/>
        </p:blipFill>
        <p:spPr>
          <a:xfrm>
            <a:off x="3059280" y="1700280"/>
            <a:ext cx="2238120" cy="178128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3"/>
          <a:stretch/>
        </p:blipFill>
        <p:spPr>
          <a:xfrm>
            <a:off x="6012000" y="1700280"/>
            <a:ext cx="2238120" cy="192384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4"/>
          <a:stretch/>
        </p:blipFill>
        <p:spPr>
          <a:xfrm>
            <a:off x="1835280" y="4221000"/>
            <a:ext cx="2238120" cy="185760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5"/>
          <a:stretch/>
        </p:blipFill>
        <p:spPr>
          <a:xfrm>
            <a:off x="5508720" y="4221000"/>
            <a:ext cx="171432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Ушибы и растяжен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2232000" cy="144144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2"/>
          <a:stretch/>
        </p:blipFill>
        <p:spPr>
          <a:xfrm>
            <a:off x="6948360" y="134136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3"/>
          <a:stretch/>
        </p:blipFill>
        <p:spPr>
          <a:xfrm>
            <a:off x="5076720" y="1700280"/>
            <a:ext cx="1524240" cy="152388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590760" y="1197000"/>
            <a:ext cx="11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1. Холод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047560" y="1268280"/>
            <a:ext cx="106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2. НПВС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30920" y="371628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3. Иммобилиз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4"/>
          <a:stretch/>
        </p:blipFill>
        <p:spPr>
          <a:xfrm>
            <a:off x="5940360" y="4653000"/>
            <a:ext cx="2592360" cy="154296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5924160" y="3860640"/>
            <a:ext cx="225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4. Разогревающи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- через 1-3 суток!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5"/>
          <a:stretch/>
        </p:blipFill>
        <p:spPr>
          <a:xfrm>
            <a:off x="539640" y="4292640"/>
            <a:ext cx="1905120" cy="133344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6"/>
          <a:stretch/>
        </p:blipFill>
        <p:spPr>
          <a:xfrm>
            <a:off x="2916360" y="3645000"/>
            <a:ext cx="1728720" cy="146052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7"/>
          <a:stretch/>
        </p:blipFill>
        <p:spPr>
          <a:xfrm>
            <a:off x="2195640" y="5013360"/>
            <a:ext cx="165564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Порез пальц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1403280" y="1989000"/>
            <a:ext cx="2325600" cy="154152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2"/>
          <a:stretch/>
        </p:blipFill>
        <p:spPr>
          <a:xfrm>
            <a:off x="5724360" y="1916280"/>
            <a:ext cx="2286000" cy="163800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3"/>
          <a:stretch/>
        </p:blipFill>
        <p:spPr>
          <a:xfrm>
            <a:off x="3492360" y="4508640"/>
            <a:ext cx="238140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Потёртости и мозол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1187280" y="1844640"/>
            <a:ext cx="2449800" cy="130644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437040" y="1211400"/>
            <a:ext cx="438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1. Внимание к обуви, носкам и ногам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53880" y="3371760"/>
            <a:ext cx="516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2. Своевременное использование пластыр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02640" y="5157720"/>
            <a:ext cx="479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3. В походе практически не лечатся, но..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стерильная повязк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ранозаживляюще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протыкать или нет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6948360" y="1413000"/>
            <a:ext cx="1390680" cy="190476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3"/>
          <a:stretch/>
        </p:blipFill>
        <p:spPr>
          <a:xfrm>
            <a:off x="4572000" y="1628640"/>
            <a:ext cx="1376280" cy="150516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4"/>
          <a:stretch/>
        </p:blipFill>
        <p:spPr>
          <a:xfrm>
            <a:off x="1116000" y="3860640"/>
            <a:ext cx="2448000" cy="118296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5"/>
          <a:stretch/>
        </p:blipFill>
        <p:spPr>
          <a:xfrm>
            <a:off x="4572000" y="3789360"/>
            <a:ext cx="1368360" cy="103500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6"/>
          <a:stretch/>
        </p:blipFill>
        <p:spPr>
          <a:xfrm>
            <a:off x="6659640" y="5445000"/>
            <a:ext cx="736560" cy="122400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7"/>
          <a:stretch/>
        </p:blipFill>
        <p:spPr>
          <a:xfrm>
            <a:off x="4932360" y="5589720"/>
            <a:ext cx="107964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Реализация принципа «Не навреди!»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Не передвигайте пострадавшего с серьезными травмам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Не давайте пищу и воду, если не уверены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Не делайте действий, перекрывающих дыхательные пути (не кладите плашмя, не подкладывайте под голову подушку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40040" y="433080"/>
            <a:ext cx="594504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ea typeface="Times New Roman"/>
              </a:rPr>
              <a:t>Алгоритм оказания помощи пострадавшему с травмой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29040" y="882720"/>
            <a:ext cx="40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Устранение повреждающего фактор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558960" y="154764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Сознание сохранено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090880" y="2211480"/>
            <a:ext cx="20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ульс на сонной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ние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30240" y="3097080"/>
            <a:ext cx="21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Сердечно-лёгочна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реаним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982600" y="3097080"/>
            <a:ext cx="22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роходимост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дыхательных  путе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438520" y="3573360"/>
            <a:ext cx="28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становка артериального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кровотечен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819760" y="44146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Обезболивание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849200" y="4846680"/>
            <a:ext cx="35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Поиск и обработка повреждени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602680" y="540072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Иммобилизация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81640" y="1312920"/>
            <a:ext cx="0" cy="333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013120" y="2752560"/>
            <a:ext cx="51408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659040" y="2752560"/>
            <a:ext cx="514440" cy="4431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013120" y="3971880"/>
            <a:ext cx="349704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540480" y="41925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40480" y="474660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540480" y="530064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099040" y="1978200"/>
            <a:ext cx="1441440" cy="16617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540480" y="5854680"/>
            <a:ext cx="0" cy="2206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32840" y="595476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ec85e"/>
                </a:solidFill>
                <a:latin typeface="Times New Roman"/>
              </a:rPr>
              <a:t>Транспортировк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204160" y="1792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67480" y="2568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да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44160" y="17701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912320" y="25686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не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0705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013120" y="3749760"/>
            <a:ext cx="0" cy="222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276720" y="1978200"/>
            <a:ext cx="382320" cy="2984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Сердечно-лёгочная реанимация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000" y="836640"/>
            <a:ext cx="8218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Обеспечение проходимости дыхательных путей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2 вдоха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прекардиальный удар ?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вдох:надавливание на грудную клетку = 2:15 (один реаниматор) или 1:5 (два реаниматора)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контроль эффективности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268360" y="981000"/>
            <a:ext cx="547236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692360" y="333360"/>
            <a:ext cx="5769000" cy="60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419640" y="2421000"/>
            <a:ext cx="313668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5T12:57:39Z</dcterms:created>
  <dc:creator>Добрушина</dc:creator>
  <dc:description/>
  <dc:language>en-US</dc:language>
  <cp:lastModifiedBy>Добрушина</cp:lastModifiedBy>
  <dcterms:modified xsi:type="dcterms:W3CDTF">2006-06-05T23:20:36Z</dcterms:modified>
  <cp:revision>36</cp:revision>
  <dc:subject/>
  <dc:title>Слайд 1</dc:title>
</cp:coreProperties>
</file>