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F99-AA84-4A44-9D0B-0CE521B1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949F-F721-4929-B0B4-CCA26841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BF5-850F-4AE3-BB6E-F4F21C2F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B8DD-0867-4621-BAD0-32E57443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9132-1EB9-4927-8479-0C05585C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D54E-E847-47E3-AB3F-F1C8FBD3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BA9B-BE75-467F-9973-B466697B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D264-3029-4EE2-A429-CDCA4763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BD31-2388-4582-8BDD-517636A5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B8B0-2EA4-4A4A-8C48-794045DF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BD8D-1C0A-43CB-AD31-71EFFE18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EA0B-CCE8-4884-B338-E8511C35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1D26-1CB6-4090-8399-5B5F632F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B227-CAF3-41ED-9B91-0B4CF4DB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CD14-2C58-457B-93EF-4C533573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2D72-5B1A-43BF-AA86-CA2B90FD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1A6E-75E4-4824-93B7-C7267AC5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3CD9-D602-4E85-854D-843B455B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D6E-7094-4F2F-B4D2-1D3FEC1B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9B98-5619-4C89-8343-4CCABF33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D9FA-B9BE-4600-803B-C8B539B8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171D-60BA-4CF0-9F3C-0555ED06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1204-0969-4787-9FF3-8A0AB398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F71-A7DD-4B43-99C7-E62B7C62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0528-A9CE-45E8-A080-5F303CE939FF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95DA-65EE-425E-BAB8-F7E94D2BA70B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Травмы в походе - общие принципы оказания помощ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7432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Добрушина Ольга, 2006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71640" y="525600"/>
            <a:ext cx="698508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69134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3456000" cy="3295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529080" cy="3413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116000" y="4292640"/>
            <a:ext cx="30243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232160" cy="4464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356868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4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ровотеч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00480" y="2060640"/>
            <a:ext cx="40435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Артериаль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еноз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Капилляр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1989000"/>
            <a:ext cx="3456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ткрыто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крыто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нутренне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907640" y="1484280"/>
            <a:ext cx="792360" cy="432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1413000"/>
            <a:ext cx="936720" cy="576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2392200" cy="4746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723680" y="458640"/>
            <a:ext cx="625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Пальцевое прижатие артер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5832360" cy="1230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2303640" cy="2303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661840" y="189000"/>
            <a:ext cx="369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Наложение жгу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Основные правила наложения жгут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накладывать на голую кожу, на ран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накладывается: в середине плеча, в нижней трети голеностоп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ила - минимальная достаточная для остановки кровотеч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ерез полчаса проверить остановку кровотечения , если не остановилось - повторить налож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закрывать жгут одеждо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Запис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медленно доставить в лечебное учрежд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ждые 2 часа летом и 0,5ч - зимой проводить ослабление жгу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2935080" cy="4381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4768560" cy="3433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780000" y="2320920"/>
            <a:ext cx="5832360" cy="4032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952720" cy="2953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5148360" y="549360"/>
            <a:ext cx="2760480" cy="28479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484360" y="278136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7093080" y="4724280"/>
            <a:ext cx="1728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2490480" cy="3024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074480" y="811080"/>
            <a:ext cx="491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ерекись водоро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ибидил (хлоргексидина биглюконат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ирамисти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Фурацилли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т.д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07040" y="33336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Мягкие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 антисепт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219640" y="4292640"/>
            <a:ext cx="2997360" cy="23875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243800" y="393372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Жесткие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 антисепт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39720" y="4581360"/>
            <a:ext cx="159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пир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Йод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«Зелёнка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3924360" y="5373720"/>
            <a:ext cx="148896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11280" y="1155960"/>
            <a:ext cx="76327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Не накладывать на голую кожу (нужны мягкие прокладки), на ран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Оставить травмированное место в том положении, в котором его нашли ег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Шина должна перекрывать как минимум два соседних с переломом суста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Лучше накладывать по бокам конечности, менее удобно – по передней или задней сторонам конеч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ачественная фиксац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Шина не должна нарушать кровообраще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16440" y="473040"/>
            <a:ext cx="59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Verdana"/>
              </a:rPr>
              <a:t>Основные правила наложения ши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042920" y="4508640"/>
            <a:ext cx="3944880" cy="19508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211640" y="333360"/>
            <a:ext cx="4537080" cy="39765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853560" y="620640"/>
            <a:ext cx="19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Верх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конеч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5759280" cy="27478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627280" y="692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Перелом ключиц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168720" cy="30988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808200" y="47628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Нижние конеч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067280" y="1844640"/>
            <a:ext cx="1712880" cy="39639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6516720" y="2997360"/>
            <a:ext cx="2195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40872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8172720" cy="19684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833280" y="7650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Verdana"/>
              </a:rPr>
              <a:t>Кости таз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675640" cy="17398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634200" y="62064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Verdana"/>
              </a:rPr>
              <a:t>Позвоночник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4427640" y="4149720"/>
            <a:ext cx="17762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ешк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себе (один человек, несколько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носилках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мяг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олужест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жест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2247840" y="476280"/>
            <a:ext cx="44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Verdana"/>
              </a:rPr>
              <a:t>Способы транспортиров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Частные случаи травм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6120000" cy="32526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ерелом позвоночника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Черепно-мозговая трав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826000" cy="31593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283356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равма грудной клет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771640" y="1844640"/>
            <a:ext cx="35974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спирация инородного те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39640" y="1797120"/>
            <a:ext cx="82803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«Острый живот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пасность – кровотечение, перитони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мощь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хол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гол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 поко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озможно применение антибиот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езболивание не показано, но..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03280" y="428760"/>
            <a:ext cx="640872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Носовое кровотеч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3567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Инородное тело в глаз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1714320" cy="20764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2238120" cy="17812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6012000" y="1700280"/>
            <a:ext cx="2238120" cy="19238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1835280" y="4221000"/>
            <a:ext cx="2238120" cy="18576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5508720" y="4221000"/>
            <a:ext cx="17143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Ушибы и растяж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232000" cy="14414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6948360" y="134136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5076720" y="170028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590760" y="11970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. Холо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047560" y="12682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2. НПВ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30920" y="3716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3. 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940360" y="4653000"/>
            <a:ext cx="2592360" cy="15429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924160" y="386064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4. Разогревающ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 через 1-3 суток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539640" y="4292640"/>
            <a:ext cx="1905120" cy="13334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2916360" y="3645000"/>
            <a:ext cx="1728720" cy="14605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2195640" y="5013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рез пальц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325600" cy="15415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5724360" y="1916280"/>
            <a:ext cx="2286000" cy="1638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3492360" y="4508640"/>
            <a:ext cx="23814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тёртости и мозол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2449800" cy="13064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37040" y="1211400"/>
            <a:ext cx="43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. Внимание к обуви, носкам и нога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3880" y="337176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2. Своевременное использование пластыр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2640" y="5157720"/>
            <a:ext cx="47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3. В походе практически не лечатся, но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стерильная повяз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ранозаживляюще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протыкать или нет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6948360" y="1413000"/>
            <a:ext cx="1390680" cy="19047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1376280" cy="15051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1116000" y="3860640"/>
            <a:ext cx="2448000" cy="11829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5"/>
          <a:stretch/>
        </p:blipFill>
        <p:spPr>
          <a:xfrm>
            <a:off x="4572000" y="3789360"/>
            <a:ext cx="1368360" cy="10350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6"/>
          <a:stretch/>
        </p:blipFill>
        <p:spPr>
          <a:xfrm>
            <a:off x="6659640" y="5445000"/>
            <a:ext cx="736560" cy="12240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7"/>
          <a:stretch/>
        </p:blipFill>
        <p:spPr>
          <a:xfrm>
            <a:off x="4932360" y="558972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Реализация принципа «Не навреди!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передвигайте пострадавшего с серьезными травмам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давайте пищу и воду, если не уверен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делайте действий, перекрывающих дыхательные пути (не кладите плашмя, не подкладывайте под голову подушку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ердечно-лёгочная реанимац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Обеспечение проходимости дыхательных путей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2 вдох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рекардиальный удар 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дох:надавливание на грудную клетку = 2:15 (один реаниматор) или 1:5 (два реаниматора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контроль эффективност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547236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76900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19640" y="2421000"/>
            <a:ext cx="31366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2:57:39Z</dcterms:created>
  <dc:creator>Добрушина</dc:creator>
  <dc:description/>
  <dc:language>en-US</dc:language>
  <cp:lastModifiedBy>Добрушина</cp:lastModifiedBy>
  <dcterms:modified xsi:type="dcterms:W3CDTF">2006-06-05T23:20:36Z</dcterms:modified>
  <cp:revision>36</cp:revision>
  <dc:subject/>
  <dc:title>Слайд 1</dc:title>
</cp:coreProperties>
</file>